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2.wmf" ContentType="image/x-wmf"/>
  <Override PartName="/ppt/media/image6.png" ContentType="image/png"/>
  <Override PartName="/ppt/media/image35.wmf" ContentType="image/x-wmf"/>
  <Override PartName="/ppt/media/image52.png" ContentType="image/png"/>
  <Override PartName="/ppt/media/image37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46.png" ContentType="image/png"/>
  <Override PartName="/ppt/media/image36.wmf" ContentType="image/x-wmf"/>
  <Override PartName="/ppt/media/image53.png" ContentType="image/png"/>
  <Override PartName="/ppt/media/image49.png" ContentType="image/png"/>
  <Override PartName="/ppt/media/image34.wmf" ContentType="image/x-wmf"/>
  <Override PartName="/ppt/media/image38.wmf" ContentType="image/x-wmf"/>
  <Override PartName="/ppt/media/image50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42.wmf" ContentType="image/x-wmf"/>
  <Override PartName="/ppt/media/image9.png" ContentType="image/png"/>
  <Override PartName="/ppt/media/image51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41.wmf" ContentType="image/x-wmf"/>
  <Override PartName="/ppt/media/image8.png" ContentType="image/png"/>
  <Override PartName="/ppt/media/image40.wmf" ContentType="image/x-wmf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C1C-AF26-47DA-8A0C-918D304D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F99-1483-495F-8A69-D4FA700A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8A7C-B63B-4CB1-AF17-074DC552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9DC-F9C5-41DA-AD7E-9FCFFBA5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378-2B83-4ABC-930E-0E06D557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727-66F5-4D75-ABEB-BA397F51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A82-DDA1-4AD1-881E-83541AF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56B-E1E1-46C4-BEFD-AD901A5B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06B-EBA8-4FBC-8E06-225C70D3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6D36-2CAC-4118-B71D-D7C5660F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CEB-601C-49C3-A948-4ABEECE9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5EF-A826-4F77-A2B2-2770ADDD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2D82-09B8-4C41-882E-A19912528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zitron Emisszi</a:t>
            </a: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ós Tomográfia</a:t>
            </a:r>
            <a:br>
              <a:rPr sz="4000"/>
            </a:br>
            <a:br>
              <a:rPr sz="4000"/>
            </a:b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Trón Lajos</a:t>
            </a:r>
            <a:br>
              <a:rPr sz="4000"/>
            </a:br>
            <a:br>
              <a:rPr sz="4000"/>
            </a:b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Debreceni Egyetem</a:t>
            </a:r>
            <a:br>
              <a:rPr sz="4000"/>
            </a:b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PET Centrum</a:t>
            </a:r>
            <a:br>
              <a:rPr sz="4000"/>
            </a:br>
            <a:br>
              <a:rPr sz="4000"/>
            </a:br>
            <a:r>
              <a:rPr b="1" lang="hu-HU" sz="4000" spc="-1" strike="noStrike">
                <a:solidFill>
                  <a:srgbClr val="ffff00"/>
                </a:solidFill>
                <a:latin typeface="Arial"/>
              </a:rPr>
              <a:t>2004. Misko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5472360" cy="53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6108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640872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406000" cy="54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32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cyclotron (Lau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39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 study (Ka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4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[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]-CO studies in man (Tob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5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ctronic col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5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cyclotron in a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61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positron scanner (Rankowit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97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TT (Ter-Pogossi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ET-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módszer jellemz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funkcionális vizsgálómóds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agy érzékeny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nincs farmakológiai ha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megfelelő térbeli felbontóképes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az alkalmazott radiofarmakonra jellemző szelektiv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kis sugárterhe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00"/>
                </a:solidFill>
                <a:latin typeface="Arial"/>
              </a:rPr>
              <a:t>széleskörű alkalmazható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 PET </a:t>
            </a:r>
            <a:r>
              <a:rPr b="0" lang="hu-H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izsgálatokban használt radionuklidok fizikai jellemző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981080"/>
          <a:ext cx="8458200" cy="4348440"/>
        </p:xfrm>
        <a:graphic>
          <a:graphicData uri="http://schemas.openxmlformats.org/drawingml/2006/table">
            <a:tbl>
              <a:tblPr/>
              <a:tblGrid>
                <a:gridCol w="1828800"/>
                <a:gridCol w="1905120"/>
                <a:gridCol w="2209680"/>
                <a:gridCol w="2514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Radionuklid</a:t>
                      </a: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elezési idő (perc)</a:t>
                      </a: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arget reakci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uklidok formái</a:t>
                      </a: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 (d,n) 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hu-HU" sz="2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C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hu-HU" sz="2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C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 (p,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) 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H</a:t>
                      </a:r>
                      <a:r>
                        <a:rPr b="0" lang="hu-HU" sz="2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hu-HU" sz="2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0,4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 (p,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) 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hu-HU" sz="2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O, 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CH</a:t>
                      </a:r>
                      <a:r>
                        <a:rPr b="0" lang="hu-HU" sz="2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O (p,n) 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hu-HU" sz="2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, H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972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16 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ór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As (He,2n) 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r>
                        <a:rPr b="0" lang="hu-HU" sz="2200" spc="-1" strike="noStrike" baseline="-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6048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4 nap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e (d,2n) 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r>
                        <a:rPr b="0" lang="hu-HU" sz="2200" spc="-1" strike="noStrike" baseline="30000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r>
                        <a:rPr b="0" lang="hu-HU" sz="2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en-GB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10480" cy="5638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152280"/>
            <a:ext cx="7467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afd00"/>
                </a:solidFill>
                <a:latin typeface="Times New Roman"/>
              </a:rPr>
              <a:t>FDG szintéz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97240" y="1701720"/>
            <a:ext cx="4349520" cy="4896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ormál agyi </a:t>
            </a:r>
            <a:r>
              <a:rPr b="0" lang="hu-HU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-FDG 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-FDG upt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6400" y="1150920"/>
            <a:ext cx="80679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3520" y="1014480"/>
            <a:ext cx="4162320" cy="5614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425840" cy="2779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00920" y="380880"/>
            <a:ext cx="933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FD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52320" y="457200"/>
            <a:ext cx="156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Times New Roman"/>
              </a:rPr>
              <a:t>Metio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128800">
            <a:off x="2118960" y="3584520"/>
            <a:ext cx="276120" cy="125640"/>
          </a:xfrm>
          <a:prstGeom prst="rightArrow">
            <a:avLst>
              <a:gd name="adj1" fmla="val 50000"/>
              <a:gd name="adj2" fmla="val 549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384120"/>
            <a:ext cx="784872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8680" y="1149480"/>
            <a:ext cx="9026640" cy="4559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48880" y="5802480"/>
            <a:ext cx="104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923"/>
                </a:solidFill>
                <a:latin typeface="Times New Roman"/>
              </a:rPr>
              <a:t>FD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10320" y="5802480"/>
            <a:ext cx="23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200" spc="-1" strike="noStrike">
                <a:solidFill>
                  <a:srgbClr val="fff923"/>
                </a:solidFill>
                <a:latin typeface="Times New Roman"/>
              </a:rPr>
              <a:t>METIO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-grade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astrocyt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81280" y="1449360"/>
            <a:ext cx="5581440" cy="52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68400" y="1459080"/>
            <a:ext cx="54039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Gastrointestinalis stromasarco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68400" y="1268280"/>
            <a:ext cx="7206840" cy="4351320"/>
            <a:chOff x="968400" y="1268280"/>
            <a:chExt cx="7206840" cy="4351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968400" y="1268280"/>
              <a:ext cx="3599640" cy="435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4569120" y="1268280"/>
              <a:ext cx="3606120" cy="435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2452320" y="5877000"/>
            <a:ext cx="4915800" cy="820800"/>
            <a:chOff x="2452320" y="5877000"/>
            <a:chExt cx="4915800" cy="820800"/>
          </a:xfrm>
        </p:grpSpPr>
        <p:sp>
          <p:nvSpPr>
            <p:cNvPr id="83" name=""/>
            <p:cNvSpPr/>
            <p:nvPr/>
          </p:nvSpPr>
          <p:spPr>
            <a:xfrm>
              <a:off x="2627280" y="5877000"/>
              <a:ext cx="388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Glivec terápia megkezdé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52320" y="6329520"/>
              <a:ext cx="491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00"/>
                  </a:solidFill>
                  <a:latin typeface="Arial"/>
                </a:rPr>
                <a:t>előtt                                       után 4 hónapp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270080" y="1811160"/>
            <a:ext cx="6603840" cy="4678200"/>
            <a:chOff x="1270080" y="1811160"/>
            <a:chExt cx="6603840" cy="4678200"/>
          </a:xfrm>
        </p:grpSpPr>
        <p:graphicFrame>
          <p:nvGraphicFramePr>
            <p:cNvPr id="86" name=""/>
            <p:cNvGraphicFramePr/>
            <p:nvPr/>
          </p:nvGraphicFramePr>
          <p:xfrm>
            <a:off x="1968480" y="1815480"/>
            <a:ext cx="5145120" cy="467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68480" y="1815480"/>
                      <a:ext cx="5145120" cy="467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1270080" y="1811160"/>
              <a:ext cx="6603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incs anató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724040" y="1811160"/>
            <a:ext cx="5697360" cy="4678560"/>
            <a:chOff x="1724040" y="1811160"/>
            <a:chExt cx="5697360" cy="4678560"/>
          </a:xfrm>
        </p:grpSpPr>
        <p:graphicFrame>
          <p:nvGraphicFramePr>
            <p:cNvPr id="91" name=""/>
            <p:cNvGraphicFramePr/>
            <p:nvPr/>
          </p:nvGraphicFramePr>
          <p:xfrm>
            <a:off x="1782000" y="1811160"/>
            <a:ext cx="5406840" cy="467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82000" y="1811160"/>
                      <a:ext cx="5406840" cy="467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1724040" y="1825920"/>
              <a:ext cx="5697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558800" y="1811160"/>
            <a:ext cx="6024600" cy="4678560"/>
            <a:chOff x="1558800" y="1811160"/>
            <a:chExt cx="6024600" cy="4678560"/>
          </a:xfrm>
        </p:grpSpPr>
        <p:graphicFrame>
          <p:nvGraphicFramePr>
            <p:cNvPr id="96" name=""/>
            <p:cNvGraphicFramePr/>
            <p:nvPr/>
          </p:nvGraphicFramePr>
          <p:xfrm>
            <a:off x="1657440" y="1811160"/>
            <a:ext cx="5765760" cy="467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57440" y="1811160"/>
                      <a:ext cx="5765760" cy="467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1558800" y="1817280"/>
              <a:ext cx="6024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Recidí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-grade 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9440" cy="569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25800" y="6021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FDG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Recidí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-grade 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o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129800" cy="5702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54160" y="616572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444680"/>
            <a:ext cx="9144000" cy="456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67920" y="312840"/>
            <a:ext cx="3868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Right front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200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1080" y="952560"/>
            <a:ext cx="8804160" cy="5746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01520" y="203040"/>
            <a:ext cx="4019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Left tempo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ifejezetten tágult kamrák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jobb kamrafali FDG-felvétell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1871640"/>
            <a:ext cx="56167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Normál szí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0" y="1687680"/>
            <a:ext cx="64800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3760" y="119160"/>
            <a:ext cx="4424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Referencia álla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54720" y="149400"/>
            <a:ext cx="27842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Teszt állap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76400" y="1047600"/>
            <a:ext cx="1371600" cy="1528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51000" y="3322800"/>
            <a:ext cx="1369800" cy="1528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22240" y="3911760"/>
            <a:ext cx="1373400" cy="152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87360" y="4483080"/>
            <a:ext cx="1371600" cy="1531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7640" y="5056200"/>
            <a:ext cx="1373040" cy="153036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504800" y="2135160"/>
            <a:ext cx="3602520" cy="4659840"/>
            <a:chOff x="1504800" y="2135160"/>
            <a:chExt cx="3602520" cy="4659840"/>
          </a:xfrm>
        </p:grpSpPr>
        <p:sp>
          <p:nvSpPr>
            <p:cNvPr id="122" name=""/>
            <p:cNvSpPr/>
            <p:nvPr/>
          </p:nvSpPr>
          <p:spPr>
            <a:xfrm flipV="1">
              <a:off x="1504800" y="2135160"/>
              <a:ext cx="3186720" cy="448776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787760" y="2301840"/>
              <a:ext cx="3319560" cy="4493160"/>
              <a:chOff x="1787760" y="2301840"/>
              <a:chExt cx="3319560" cy="4493160"/>
            </a:xfrm>
          </p:grpSpPr>
          <p:sp>
            <p:nvSpPr>
              <p:cNvPr id="124" name=""/>
              <p:cNvSpPr/>
              <p:nvPr/>
            </p:nvSpPr>
            <p:spPr>
              <a:xfrm>
                <a:off x="4756680" y="230184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12800" y="2827440"/>
                <a:ext cx="257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93760" y="3417840"/>
                <a:ext cx="257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473280" y="4008600"/>
                <a:ext cx="257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50280" y="460044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29800" y="519264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09680" y="57816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87760" y="63403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971640" y="5268960"/>
            <a:ext cx="258840" cy="306360"/>
          </a:xfrm>
          <a:prstGeom prst="ellipse">
            <a:avLst/>
          </a:prstGeom>
          <a:noFill/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16360" y="1224000"/>
            <a:ext cx="258840" cy="306360"/>
          </a:xfrm>
          <a:prstGeom prst="ellipse">
            <a:avLst/>
          </a:prstGeom>
          <a:noFill/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0600" y="3500280"/>
            <a:ext cx="258840" cy="287640"/>
          </a:xfrm>
          <a:prstGeom prst="ellipse">
            <a:avLst/>
          </a:prstGeom>
          <a:noFill/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49600" y="4064040"/>
            <a:ext cx="260280" cy="306360"/>
          </a:xfrm>
          <a:prstGeom prst="ellipse">
            <a:avLst/>
          </a:prstGeom>
          <a:noFill/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09680" y="4648320"/>
            <a:ext cx="258840" cy="306360"/>
          </a:xfrm>
          <a:prstGeom prst="ellipse">
            <a:avLst/>
          </a:prstGeom>
          <a:noFill/>
          <a:ln w="5076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827520" y="1200240"/>
            <a:ext cx="4276800" cy="5379840"/>
            <a:chOff x="3827520" y="1200240"/>
            <a:chExt cx="4276800" cy="5379840"/>
          </a:xfrm>
        </p:grpSpPr>
        <p:pic>
          <p:nvPicPr>
            <p:cNvPr id="138" name="" descr=""/>
            <p:cNvPicPr/>
            <p:nvPr/>
          </p:nvPicPr>
          <p:blipFill>
            <a:blip r:embed="rId6"/>
            <a:stretch/>
          </p:blipFill>
          <p:spPr>
            <a:xfrm>
              <a:off x="6717240" y="1200240"/>
              <a:ext cx="13870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5073480" y="3408480"/>
              <a:ext cx="13852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8"/>
            <a:stretch/>
          </p:blipFill>
          <p:spPr>
            <a:xfrm>
              <a:off x="4641840" y="3981600"/>
              <a:ext cx="138816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"/>
            <a:stretch/>
          </p:blipFill>
          <p:spPr>
            <a:xfrm>
              <a:off x="4201560" y="4535640"/>
              <a:ext cx="1387080" cy="14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0"/>
            <a:stretch/>
          </p:blipFill>
          <p:spPr>
            <a:xfrm>
              <a:off x="3827520" y="5092560"/>
              <a:ext cx="13870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791240" y="5299200"/>
              <a:ext cx="262080" cy="29664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66920" y="1371600"/>
              <a:ext cx="262080" cy="29700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24240" y="3583080"/>
              <a:ext cx="262080" cy="2761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78560" y="4130640"/>
              <a:ext cx="262080" cy="29520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3960" y="4697280"/>
              <a:ext cx="262080" cy="29556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25520" y="6022800"/>
            <a:ext cx="225360" cy="2541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46560" y="6039000"/>
            <a:ext cx="225360" cy="25380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24760" y="2128680"/>
            <a:ext cx="225360" cy="2541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2027160"/>
            <a:ext cx="225360" cy="2541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391000" y="2162160"/>
            <a:ext cx="3754440" cy="4595040"/>
            <a:chOff x="5391000" y="2162160"/>
            <a:chExt cx="3754440" cy="4595040"/>
          </a:xfrm>
        </p:grpSpPr>
        <p:sp>
          <p:nvSpPr>
            <p:cNvPr id="153" name=""/>
            <p:cNvSpPr/>
            <p:nvPr/>
          </p:nvSpPr>
          <p:spPr>
            <a:xfrm flipV="1">
              <a:off x="5391000" y="2162160"/>
              <a:ext cx="3331800" cy="441792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690880" y="2327400"/>
              <a:ext cx="3454560" cy="4429800"/>
              <a:chOff x="5690880" y="2327400"/>
              <a:chExt cx="3454560" cy="4429800"/>
            </a:xfrm>
          </p:grpSpPr>
          <p:sp>
            <p:nvSpPr>
              <p:cNvPr id="155" name=""/>
              <p:cNvSpPr/>
              <p:nvPr/>
            </p:nvSpPr>
            <p:spPr>
              <a:xfrm>
                <a:off x="8794800" y="232740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330760" y="2843280"/>
                <a:ext cx="257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91920" y="3424320"/>
                <a:ext cx="257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452000" y="4006800"/>
                <a:ext cx="257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11720" y="458964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71440" y="51721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32240" y="57531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90880" y="63025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665440" y="3733920"/>
            <a:ext cx="3825720" cy="2974680"/>
            <a:chOff x="2665440" y="3733920"/>
            <a:chExt cx="3825720" cy="2974680"/>
          </a:xfrm>
        </p:grpSpPr>
        <p:graphicFrame>
          <p:nvGraphicFramePr>
            <p:cNvPr id="164" name=""/>
            <p:cNvGraphicFramePr/>
            <p:nvPr/>
          </p:nvGraphicFramePr>
          <p:xfrm>
            <a:off x="2665440" y="3733920"/>
            <a:ext cx="3825720" cy="297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5440" y="3733920"/>
                      <a:ext cx="3825720" cy="29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4158000" y="4322880"/>
              <a:ext cx="66240" cy="6336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0800" y="4506840"/>
              <a:ext cx="66240" cy="637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77640" y="4809960"/>
              <a:ext cx="66240" cy="637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78240" y="4519440"/>
              <a:ext cx="64800" cy="637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67160" y="5407200"/>
              <a:ext cx="66240" cy="6336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11400" y="5272200"/>
              <a:ext cx="66240" cy="6336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70280" y="6094440"/>
              <a:ext cx="66240" cy="6516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85320" y="6216480"/>
              <a:ext cx="64800" cy="6516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65800" y="5878440"/>
              <a:ext cx="64800" cy="637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6520" y="6180120"/>
              <a:ext cx="66240" cy="6336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45000" y="6138720"/>
              <a:ext cx="64800" cy="6516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71120" y="6195960"/>
              <a:ext cx="66240" cy="6516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65560" y="5989680"/>
              <a:ext cx="64440" cy="6336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46760" y="4929120"/>
              <a:ext cx="66240" cy="637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3880" y="5759280"/>
              <a:ext cx="64440" cy="637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86240" y="6130800"/>
              <a:ext cx="57600" cy="637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84240" y="5059440"/>
              <a:ext cx="66240" cy="6516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80360" y="4154400"/>
              <a:ext cx="64440" cy="6516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77560" y="3956040"/>
              <a:ext cx="64800" cy="6336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69360" y="4178160"/>
              <a:ext cx="64440" cy="637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775040" y="500040"/>
            <a:ext cx="4051440" cy="2941560"/>
            <a:chOff x="4775040" y="500040"/>
            <a:chExt cx="4051440" cy="2941560"/>
          </a:xfrm>
        </p:grpSpPr>
        <p:graphicFrame>
          <p:nvGraphicFramePr>
            <p:cNvPr id="187" name=""/>
            <p:cNvGraphicFramePr/>
            <p:nvPr/>
          </p:nvGraphicFramePr>
          <p:xfrm>
            <a:off x="4775040" y="500040"/>
            <a:ext cx="4051440" cy="294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75040" y="500040"/>
                      <a:ext cx="4051440" cy="29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9" name=""/>
            <p:cNvGrpSpPr/>
            <p:nvPr/>
          </p:nvGrpSpPr>
          <p:grpSpPr>
            <a:xfrm>
              <a:off x="5532840" y="1090440"/>
              <a:ext cx="1090080" cy="1935360"/>
              <a:chOff x="5532840" y="1090440"/>
              <a:chExt cx="1090080" cy="1935360"/>
            </a:xfrm>
          </p:grpSpPr>
          <p:sp>
            <p:nvSpPr>
              <p:cNvPr id="190" name=""/>
              <p:cNvSpPr/>
              <p:nvPr/>
            </p:nvSpPr>
            <p:spPr>
              <a:xfrm>
                <a:off x="6033600" y="1090440"/>
                <a:ext cx="73080" cy="6372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930280" y="1271520"/>
                <a:ext cx="73080" cy="6372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55400" y="1571760"/>
                <a:ext cx="73440" cy="6336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60320" y="1284120"/>
                <a:ext cx="71640" cy="6372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55000" y="2162160"/>
                <a:ext cx="73440" cy="6336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92040" y="2028960"/>
                <a:ext cx="73080" cy="6336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22840" y="2843280"/>
                <a:ext cx="73080" cy="6192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32840" y="2963880"/>
                <a:ext cx="71640" cy="6192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359400" y="2629080"/>
                <a:ext cx="71640" cy="6336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551280" y="2927520"/>
                <a:ext cx="71640" cy="61920"/>
              </a:xfrm>
              <a:prstGeom prst="ellipse">
                <a:avLst/>
              </a:prstGeom>
              <a:noFill/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42280" y="719280"/>
              <a:ext cx="1010520" cy="2241360"/>
              <a:chOff x="5642280" y="719280"/>
              <a:chExt cx="1010520" cy="2241360"/>
            </a:xfrm>
          </p:grpSpPr>
          <p:sp>
            <p:nvSpPr>
              <p:cNvPr id="201" name=""/>
              <p:cNvSpPr/>
              <p:nvPr/>
            </p:nvSpPr>
            <p:spPr>
              <a:xfrm>
                <a:off x="6580800" y="2897280"/>
                <a:ext cx="72000" cy="63360"/>
              </a:xfrm>
              <a:prstGeom prst="ellipse">
                <a:avLst/>
              </a:prstGeom>
              <a:noFill/>
              <a:ln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90360" y="2716200"/>
                <a:ext cx="72000" cy="61920"/>
              </a:xfrm>
              <a:prstGeom prst="ellipse">
                <a:avLst/>
              </a:prstGeom>
              <a:noFill/>
              <a:ln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237720" y="1681200"/>
                <a:ext cx="72000" cy="63360"/>
              </a:xfrm>
              <a:prstGeom prst="ellipse">
                <a:avLst/>
              </a:prstGeom>
              <a:noFill/>
              <a:ln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754960" y="2503440"/>
                <a:ext cx="73440" cy="63720"/>
              </a:xfrm>
              <a:prstGeom prst="ellipse">
                <a:avLst/>
              </a:prstGeom>
              <a:noFill/>
              <a:ln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42280" y="2870280"/>
                <a:ext cx="64800" cy="63360"/>
              </a:xfrm>
              <a:prstGeom prst="ellipse">
                <a:avLst/>
              </a:prstGeom>
              <a:noFill/>
              <a:ln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38120" y="1787400"/>
                <a:ext cx="72000" cy="63720"/>
              </a:xfrm>
              <a:prstGeom prst="ellipse">
                <a:avLst/>
              </a:prstGeom>
              <a:noFill/>
              <a:ln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952960" y="917640"/>
                <a:ext cx="73080" cy="61920"/>
              </a:xfrm>
              <a:prstGeom prst="ellipse">
                <a:avLst/>
              </a:prstGeom>
              <a:noFill/>
              <a:ln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055920" y="719280"/>
                <a:ext cx="73080" cy="63360"/>
              </a:xfrm>
              <a:prstGeom prst="ellipse">
                <a:avLst/>
              </a:prstGeom>
              <a:noFill/>
              <a:ln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53120" y="939960"/>
                <a:ext cx="73080" cy="63360"/>
              </a:xfrm>
              <a:prstGeom prst="ellipse">
                <a:avLst/>
              </a:prstGeom>
              <a:noFill/>
              <a:ln w="50760">
                <a:solidFill>
                  <a:srgbClr val="037c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392040" y="496800"/>
            <a:ext cx="3987720" cy="2944800"/>
            <a:chOff x="392040" y="496800"/>
            <a:chExt cx="3987720" cy="2944800"/>
          </a:xfrm>
        </p:grpSpPr>
        <p:graphicFrame>
          <p:nvGraphicFramePr>
            <p:cNvPr id="211" name=""/>
            <p:cNvGraphicFramePr/>
            <p:nvPr/>
          </p:nvGraphicFramePr>
          <p:xfrm>
            <a:off x="392040" y="496800"/>
            <a:ext cx="3987720" cy="294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92040" y="496800"/>
                      <a:ext cx="3987720" cy="294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3" name=""/>
            <p:cNvSpPr/>
            <p:nvPr/>
          </p:nvSpPr>
          <p:spPr>
            <a:xfrm>
              <a:off x="1447200" y="1832040"/>
              <a:ext cx="70560" cy="6336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47120" y="2516040"/>
              <a:ext cx="70560" cy="637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44160" y="2860560"/>
              <a:ext cx="70560" cy="619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51960" y="893880"/>
              <a:ext cx="70200" cy="6336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41960" y="747720"/>
              <a:ext cx="70200" cy="6336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49240" y="941400"/>
              <a:ext cx="70560" cy="619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52200" y="1927080"/>
              <a:ext cx="70200" cy="637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44000" y="2712960"/>
              <a:ext cx="70200" cy="637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65320" y="2892600"/>
              <a:ext cx="70200" cy="6336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68640" y="2932200"/>
              <a:ext cx="70200" cy="619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26800" y="2954160"/>
              <a:ext cx="70560" cy="63720"/>
            </a:xfrm>
            <a:prstGeom prst="ellipse">
              <a:avLst/>
            </a:prstGeom>
            <a:noFill/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70240" y="2746440"/>
              <a:ext cx="70560" cy="619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67800" y="2220840"/>
              <a:ext cx="70200" cy="637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68960" y="1403280"/>
              <a:ext cx="70560" cy="637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76240" y="968400"/>
              <a:ext cx="70560" cy="619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65160" y="1085760"/>
              <a:ext cx="70560" cy="637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59840" y="1725480"/>
              <a:ext cx="70200" cy="637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1440" y="2165400"/>
              <a:ext cx="70200" cy="619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77280" y="2592360"/>
              <a:ext cx="70200" cy="619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2760" y="2849400"/>
              <a:ext cx="70560" cy="619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73480" y="2940120"/>
              <a:ext cx="70200" cy="6336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34960" y="2914560"/>
              <a:ext cx="70560" cy="63720"/>
            </a:xfrm>
            <a:prstGeom prst="ellipse">
              <a:avLst/>
            </a:prstGeom>
            <a:noFill/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971960" y="1550880"/>
            <a:ext cx="3202200" cy="375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55520" y="1549440"/>
            <a:ext cx="2998800" cy="372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312920" y="1685880"/>
            <a:ext cx="2547720" cy="3419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27480" y="1744560"/>
            <a:ext cx="2829240" cy="3360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64440" y="208080"/>
            <a:ext cx="678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afd00"/>
                </a:solidFill>
                <a:latin typeface="Times New Roman"/>
              </a:rPr>
              <a:t>Result of statistical analysis: S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3440" y="5546880"/>
            <a:ext cx="8335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afd00"/>
                </a:solidFill>
                <a:latin typeface="Times New Roman"/>
              </a:rPr>
              <a:t>single subject, two functional states (A,B) three repetitions (ABAB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56240" y="1417680"/>
            <a:ext cx="3003480" cy="368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5080" y="1417680"/>
            <a:ext cx="3003480" cy="368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652760" y="1755720"/>
            <a:ext cx="2606400" cy="3137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70440" y="1733400"/>
            <a:ext cx="2550960" cy="3178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64440" y="208080"/>
            <a:ext cx="678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afd00"/>
                </a:solidFill>
                <a:latin typeface="Times New Roman"/>
              </a:rPr>
              <a:t>Result of statistical analysis: S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99000" y="5495760"/>
            <a:ext cx="9316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afd00"/>
                </a:solidFill>
                <a:latin typeface="Times New Roman"/>
              </a:rPr>
              <a:t>single subject, two functional states (A,B) three repetitions (ABABA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fafd00"/>
                </a:solidFill>
                <a:latin typeface="Times New Roman"/>
              </a:rPr>
              <a:t>SPM and the related MRI sections are both dis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916520" y="1103400"/>
            <a:ext cx="3103560" cy="38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00160" y="1103400"/>
            <a:ext cx="3105000" cy="381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30880" y="1441440"/>
            <a:ext cx="2398680" cy="32702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503360" y="1440000"/>
            <a:ext cx="2411280" cy="3271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64440" y="309600"/>
            <a:ext cx="678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fafd00"/>
                </a:solidFill>
                <a:latin typeface="Times New Roman"/>
              </a:rPr>
              <a:t>Result of statistical analysis: S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55520" y="5105520"/>
            <a:ext cx="322452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Times New Roman"/>
              </a:rPr>
              <a:t>four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Times New Roman"/>
              </a:rPr>
              <a:t>two functional states 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Times New Roman"/>
              </a:rPr>
              <a:t>three repetitions (ABAB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Times New Roman"/>
              </a:rPr>
              <a:t>SPM and the related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Times New Roman"/>
              </a:rPr>
              <a:t>MRI section are both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29120" y="5105520"/>
            <a:ext cx="3403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Times New Roman"/>
              </a:rPr>
              <a:t>single 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Times New Roman"/>
              </a:rPr>
              <a:t>two functional states (A,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Times New Roman"/>
              </a:rPr>
              <a:t>three repetitions (ABABA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Times New Roman"/>
              </a:rPr>
              <a:t>SPM and the related MRI section are both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3513240" cy="3116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635800" y="766800"/>
            <a:ext cx="3506760" cy="3105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342400" y="179280"/>
            <a:ext cx="340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alking - Re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-290160" y="201600"/>
            <a:ext cx="52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Listening to speech - Re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0" y="3855960"/>
            <a:ext cx="4127400" cy="3002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929120" y="3822840"/>
            <a:ext cx="42134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724040" y="152280"/>
            <a:ext cx="5872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Photostimulation - Re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132000" y="2519280"/>
            <a:ext cx="5778720" cy="41529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50920" y="847800"/>
            <a:ext cx="33717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8836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069920"/>
            <a:ext cx="777528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4898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zitron-hat</a:t>
            </a: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ótávolsá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3000" y="2022480"/>
            <a:ext cx="685800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583416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3:41:51Z</dcterms:created>
  <dc:creator>Trón Lajos</dc:creator>
  <dc:description/>
  <dc:language>en-US</dc:language>
  <cp:lastModifiedBy>Bea</cp:lastModifiedBy>
  <dcterms:modified xsi:type="dcterms:W3CDTF">2004-05-03T15:58:35Z</dcterms:modified>
  <cp:revision>12</cp:revision>
  <dc:subject/>
  <dc:title>1. dia</dc:title>
</cp:coreProperties>
</file>